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E1DD-8F55-4369-9309-1E910D7F8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4C39-DD3C-4135-801F-0D702F35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9238-13F4-4034-B23B-D7FAD65FE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2DC0-E278-4701-8FCE-D4303F00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EEB8-636E-4203-9C29-EEDEFE19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1E08-FE33-4D77-A151-9B65DACA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2968-8B14-4031-8654-A395D568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6A5F-0D8A-4E1C-9565-01A0A6BB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E6E7-FC96-45E0-8410-E5707EF6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7ED0-C65E-45F1-9130-501A47F5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0BC8-ED1F-42B0-9351-B41169AE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DE0E-559C-4902-97EC-C2776FB6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62A4-751D-478B-9757-328E9998743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ebspace.ship.edu/cgboer/bandura.html" TargetMode="External"/><Relationship Id="rId2" Type="http://schemas.openxmlformats.org/officeDocument/2006/relationships/hyperlink" Target="http://psychclassics.yorku.ca/Bandura/bobo.ht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Porky's"/>
              </a:rPr>
              <a:t>Albert Band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540972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By: Luis Diego Ort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bandura"/>
          <p:cNvPicPr/>
          <p:nvPr/>
        </p:nvPicPr>
        <p:blipFill>
          <a:blip r:embed="rId1"/>
          <a:stretch/>
        </p:blipFill>
        <p:spPr>
          <a:xfrm>
            <a:off x="2895480" y="1219320"/>
            <a:ext cx="3052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Porky's"/>
              </a:rPr>
              <a:t>Bobo Doll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his experiment was done in 1961 to try to prove Bandura’s belief that all human behavior was learned through social imitation rather than inherited by genetic fa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study"/>
          <p:cNvPicPr/>
          <p:nvPr/>
        </p:nvPicPr>
        <p:blipFill>
          <a:blip r:embed="rId1"/>
          <a:stretch/>
        </p:blipFill>
        <p:spPr>
          <a:xfrm>
            <a:off x="4419720" y="2362320"/>
            <a:ext cx="44193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40384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t was done to prove that in this case children would copy an adult’s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By using aggresive and non-aggresive factors he wanted to prove that a child would tend to copy tha action and behavior of an ad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experiment"/>
          <p:cNvPicPr/>
          <p:nvPr/>
        </p:nvPicPr>
        <p:blipFill>
          <a:blip r:embed="rId1"/>
          <a:stretch/>
        </p:blipFill>
        <p:spPr>
          <a:xfrm>
            <a:off x="4267080" y="1219320"/>
            <a:ext cx="472464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4038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hildren were chosen for this experiment because they have less knowledge about social rules and conditioning of socie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 bobo doll is an inflatable toy designed to spring back upright when knocked ov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niño"/>
          <p:cNvPicPr/>
          <p:nvPr/>
        </p:nvPicPr>
        <p:blipFill>
          <a:blip r:embed="rId1"/>
          <a:stretch/>
        </p:blipFill>
        <p:spPr>
          <a:xfrm>
            <a:off x="3962520" y="2209680"/>
            <a:ext cx="495288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Porky's"/>
              </a:rPr>
              <a:t>Hypothesis and Predi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Bandura predicted that children witnessing an adult in an aggresive manner would likely replicate his actions even if the adult was not pres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hildren who had witnessed a non-aggresive adult would show little viol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doll"/>
          <p:cNvPicPr/>
          <p:nvPr/>
        </p:nvPicPr>
        <p:blipFill>
          <a:blip r:embed="rId1"/>
          <a:stretch/>
        </p:blipFill>
        <p:spPr>
          <a:xfrm>
            <a:off x="4648320" y="1828800"/>
            <a:ext cx="41338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Believed that children would copy the behavior of a model of their same se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With this he wanted to show that children identified themselves easier with their same gen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st but not least, male children would react more violent than female children because men in  society are more aggresive than wo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r"/>
          <p:cNvPicPr/>
          <p:nvPr/>
        </p:nvPicPr>
        <p:blipFill>
          <a:blip r:embed="rId1"/>
          <a:stretch/>
        </p:blipFill>
        <p:spPr>
          <a:xfrm>
            <a:off x="4419720" y="1219320"/>
            <a:ext cx="4533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Porky's"/>
              </a:rPr>
              <a:t>Setting the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elected children from the nursing school in Stanford University from a range of 3 to 6 years, with the average being 4 years and 4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icked 36 subjects of each sex to test gender aggre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doll2"/>
          <p:cNvPicPr/>
          <p:nvPr/>
        </p:nvPicPr>
        <p:blipFill>
          <a:blip r:embed="rId1"/>
          <a:stretch/>
        </p:blipFill>
        <p:spPr>
          <a:xfrm>
            <a:off x="4267080" y="1523880"/>
            <a:ext cx="441972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he control group that would not see an adult model at all was made up of 12 boys and 12 gir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he second group which would be exposed to an adult showing aggresive tendencies was made up of 24 children of either s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doll3"/>
          <p:cNvPicPr/>
          <p:nvPr/>
        </p:nvPicPr>
        <p:blipFill>
          <a:blip r:embed="rId1"/>
          <a:stretch/>
        </p:blipFill>
        <p:spPr>
          <a:xfrm>
            <a:off x="4419720" y="1027080"/>
            <a:ext cx="45720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Both of the resulting groups of 12 were div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alf would be tested with a female role model and the other half with a male rol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he third group was arranged the same way but they were exposed to a passive adu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doll5"/>
          <p:cNvPicPr/>
          <p:nvPr/>
        </p:nvPicPr>
        <p:blipFill>
          <a:blip r:embed="rId1"/>
          <a:stretch/>
        </p:blipFill>
        <p:spPr>
          <a:xfrm>
            <a:off x="4800600" y="1447920"/>
            <a:ext cx="37861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40384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hey already knew which kids were more aggresive than others so this also helped them divide the childr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ach of them were tested individually so they won’t affect the reactions of the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y"/>
          <p:cNvPicPr/>
          <p:nvPr/>
        </p:nvPicPr>
        <p:blipFill>
          <a:blip r:embed="rId1"/>
          <a:stretch/>
        </p:blipFill>
        <p:spPr>
          <a:xfrm>
            <a:off x="4343400" y="1066680"/>
            <a:ext cx="4635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he child was taken into a room and sat in a corner with some toys which they weren’t allowed to play wi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or the children in group two the adult would begin to physically and verbally attack the doll for a period of 10 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k"/>
          <p:cNvPicPr/>
          <p:nvPr/>
        </p:nvPicPr>
        <p:blipFill>
          <a:blip r:embed="rId1"/>
          <a:stretch/>
        </p:blipFill>
        <p:spPr>
          <a:xfrm>
            <a:off x="4495680" y="380880"/>
            <a:ext cx="441828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Porky's"/>
              </a:rPr>
              <a:t>Ear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Born December 4, 1925 in a small town of Mundare in northern Alberta, Ca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ostly immigrants from Poland Ukraine lived in this t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Youngest child and only boy of the six children of Eastern European des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little al"/>
          <p:cNvPicPr/>
          <p:nvPr/>
        </p:nvPicPr>
        <p:blipFill>
          <a:blip r:embed="rId1"/>
          <a:stretch/>
        </p:blipFill>
        <p:spPr>
          <a:xfrm>
            <a:off x="5105520" y="1447920"/>
            <a:ext cx="2896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 the third group the adult would sit quietly and peacefully played with the toys for ten minu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he control group sat 10 minutes in the room with no adult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hola2"/>
          <p:cNvPicPr/>
          <p:nvPr/>
        </p:nvPicPr>
        <p:blipFill>
          <a:blip r:embed="rId1"/>
          <a:stretch/>
        </p:blipFill>
        <p:spPr>
          <a:xfrm>
            <a:off x="4419720" y="2209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hen they were taken to another room in which there were interesting toys which they were prohibited to play wi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hey told them that the toys were reserved for another kid so their frustration would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hen they were taken to another room with aggresive and non-aggresive toys and they were wacthed through a one way mirr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toy"/>
          <p:cNvPicPr/>
          <p:nvPr/>
        </p:nvPicPr>
        <p:blipFill>
          <a:blip r:embed="rId1"/>
          <a:stretch/>
        </p:blipFill>
        <p:spPr>
          <a:xfrm>
            <a:off x="4572000" y="685800"/>
            <a:ext cx="391176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hildren who were exposed to the aggresive model were more likely to imitate the aggresive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Boys were nearly three times more aggresive than gir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he levels of verbal aggresion were mostly seen to the subjects presented with violent rol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l"/>
          <p:cNvPicPr/>
          <p:nvPr/>
        </p:nvPicPr>
        <p:blipFill>
          <a:blip r:embed="rId1"/>
          <a:stretch/>
        </p:blipFill>
        <p:spPr>
          <a:xfrm>
            <a:off x="4038480" y="2743200"/>
            <a:ext cx="495324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hildren exposed to the non-aggresive model or no model, showed little imitative aggresive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ale subjects exposed to non-aggresive models were less likely to use the mallet to hit the Bobo Doll. Male subjects placed with non-aggresive female models were more likely to use the mallet than the control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h"/>
          <p:cNvPicPr/>
          <p:nvPr/>
        </p:nvPicPr>
        <p:blipFill>
          <a:blip r:embed="rId1"/>
          <a:stretch/>
        </p:blipFill>
        <p:spPr>
          <a:xfrm>
            <a:off x="5029200" y="1447920"/>
            <a:ext cx="322884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ttp://www.youtube.com/watch?v=vdh7Mngn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ebspace.ship.edu/cgboer/bandura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sychclassics.yorku.ca/Bandura/bobo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ttp://www.des.emory.edu/mfp/bandurabio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ttp://www.experiment-resources.com/bobo-doll-experimen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ttp://www.youtube.com/watch?v=vdh7Mngnt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ttp://www.criminology.fsu.edu/crimtheory/bandura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ttp://psychology.about.com/od/profilesofmajorthinkers/p/bio_bandura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ttp://www.learning-theories.com/social-learning-theory-bandura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40384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His father was from Poland and worked in the trans-Canada railroad and his mother came from Ukraine and worked in the town’s general sto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hey did not have a good education but his father taught himself how to speak Polish, Russian and Ger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hey saved enough money to buy a homestead and with their own hands change it to a fa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bandura5"/>
          <p:cNvPicPr/>
          <p:nvPr/>
        </p:nvPicPr>
        <p:blipFill>
          <a:blip r:embed="rId1"/>
          <a:stretch/>
        </p:blipFill>
        <p:spPr>
          <a:xfrm>
            <a:off x="4952880" y="762120"/>
            <a:ext cx="366552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Porky's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lementary’s and High School years were spent at the only school in t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idn’t have  many teachers so they left the initiative of their education to their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joven"/>
          <p:cNvPicPr/>
          <p:nvPr/>
        </p:nvPicPr>
        <p:blipFill>
          <a:blip r:embed="rId1"/>
          <a:stretch/>
        </p:blipFill>
        <p:spPr>
          <a:xfrm>
            <a:off x="4724280" y="1295280"/>
            <a:ext cx="33735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40384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wo teachers handled the entire high school curricul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he students had to take charge of their own education” Bandura once s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uring summer he was encouraged by his parents to search for boundaries outside their fa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carpenter"/>
          <p:cNvPicPr/>
          <p:nvPr/>
        </p:nvPicPr>
        <p:blipFill>
          <a:blip r:embed="rId1"/>
          <a:stretch/>
        </p:blipFill>
        <p:spPr>
          <a:xfrm>
            <a:off x="4419720" y="1371600"/>
            <a:ext cx="449568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40384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nce he worked in a furniture manufacturing plant in Edmont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his experience supported him through college which he sometimes worked as a carp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fter his high school graduation he went to the University of British Columbia in which Bandura’s career came by ch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al"/>
          <p:cNvPicPr/>
          <p:nvPr/>
        </p:nvPicPr>
        <p:blipFill>
          <a:blip r:embed="rId1"/>
          <a:stretch/>
        </p:blipFill>
        <p:spPr>
          <a:xfrm>
            <a:off x="4572000" y="762120"/>
            <a:ext cx="394668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40384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"One morning, I was wasting time in the library. Someone had forgotten to return a course catalog and I thumbed through it attempting to find a filler course to occupy the early time slot. I noticed a course in psychology that would serve as excellent filler. It sparked my interest and I found my career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hola"/>
          <p:cNvPicPr/>
          <p:nvPr/>
        </p:nvPicPr>
        <p:blipFill>
          <a:blip r:embed="rId1"/>
          <a:stretch/>
        </p:blipFill>
        <p:spPr>
          <a:xfrm>
            <a:off x="4572000" y="838080"/>
            <a:ext cx="392580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40384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fter graduating, Bandura went to the Univeristy of Iowa to study in the department of psych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Bandura learned to play golf which at the end led to an important part of his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iowa"/>
          <p:cNvPicPr/>
          <p:nvPr/>
        </p:nvPicPr>
        <p:blipFill>
          <a:blip r:embed="rId1"/>
          <a:stretch/>
        </p:blipFill>
        <p:spPr>
          <a:xfrm>
            <a:off x="4419720" y="1600200"/>
            <a:ext cx="441936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Porky's"/>
              </a:rPr>
              <a:t>W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One Sunday he was late to the golf course with his friend and they bumped with two attractive women in a sand tra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One of this woman is called Virginia Varns who was studying on the teaching staff of the College of Nurs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They married in 1952 and became the parents to two daughters, Mary, who was born in 1954 and Carol born in 195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banduraa"/>
          <p:cNvPicPr/>
          <p:nvPr/>
        </p:nvPicPr>
        <p:blipFill>
          <a:blip r:embed="rId1"/>
          <a:stretch/>
        </p:blipFill>
        <p:spPr>
          <a:xfrm>
            <a:off x="4419720" y="2209680"/>
            <a:ext cx="4419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23:23:56Z</dcterms:created>
  <dc:creator>monica castañeda</dc:creator>
  <dc:description/>
  <dc:language>en-US</dc:language>
  <cp:lastModifiedBy>Comp13</cp:lastModifiedBy>
  <dcterms:modified xsi:type="dcterms:W3CDTF">2009-11-25T14:24:31Z</dcterms:modified>
  <cp:revision>3</cp:revision>
  <dc:subject/>
  <dc:title>Albert Bandura</dc:title>
</cp:coreProperties>
</file>